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33.jpeg" ContentType="image/jpeg"/>
  <Override PartName="/ppt/media/image23.gif" ContentType="image/gif"/>
  <Override PartName="/ppt/media/image20.gif" ContentType="image/gif"/>
  <Override PartName="/ppt/media/image18.gif" ContentType="image/gif"/>
  <Override PartName="/ppt/media/image29.gif" ContentType="image/gif"/>
  <Override PartName="/ppt/media/image6.gif" ContentType="image/gif"/>
  <Override PartName="/ppt/media/image31.gif" ContentType="image/gif"/>
  <Override PartName="/ppt/media/image11.gif" ContentType="image/gif"/>
  <Override PartName="/ppt/media/image24.jpeg" ContentType="image/jpeg"/>
  <Override PartName="/ppt/media/image12.gif" ContentType="image/gif"/>
  <Override PartName="/ppt/media/image30.jpeg" ContentType="image/jpeg"/>
  <Override PartName="/ppt/media/image7.gif" ContentType="image/gif"/>
  <Override PartName="/ppt/media/image32.gif" ContentType="image/gif"/>
  <Override PartName="/ppt/media/image35.png" ContentType="image/png"/>
  <Override PartName="/ppt/media/image8.gif" ContentType="image/gif"/>
  <Override PartName="/ppt/media/image13.gif" ContentType="image/gif"/>
  <Override PartName="/ppt/media/image34.jpeg" ContentType="image/jpeg"/>
  <Override PartName="/ppt/media/image15.gif" ContentType="image/gif"/>
  <Override PartName="/ppt/media/image5.gif" ContentType="image/gif"/>
  <Override PartName="/ppt/media/image28.gif" ContentType="image/gif"/>
  <Override PartName="/ppt/media/image3.gif" ContentType="image/gif"/>
  <Override PartName="/ppt/media/image26.gif" ContentType="image/gif"/>
  <Override PartName="/ppt/media/image9.jpeg" ContentType="image/jpeg"/>
  <Override PartName="/ppt/media/image22.gif" ContentType="image/gif"/>
  <Override PartName="/ppt/media/image2.png" ContentType="image/png"/>
  <Override PartName="/ppt/media/image25.jpeg" ContentType="image/jpeg"/>
  <Override PartName="/ppt/media/image1.png" ContentType="image/png"/>
  <Override PartName="/ppt/media/image19.gif" ContentType="image/gif"/>
  <Override PartName="/ppt/media/image21.gif" ContentType="image/gif"/>
  <Override PartName="/ppt/media/image10.jpeg" ContentType="image/jpeg"/>
  <Override PartName="/ppt/media/image14.gif" ContentType="image/gif"/>
  <Override PartName="/ppt/media/image16.gif" ContentType="image/gif"/>
  <Override PartName="/ppt/media/image1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8EF4-63C0-4B0E-B47B-6C36012E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4B61-EF61-445F-98D1-B5844F02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E462-8AAA-4641-8C6E-E5EE003C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D399-DC1D-4B35-996F-B231773F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6DA7-5373-4218-B6BD-F837B40C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389A-9778-4E38-8D57-5CAD50C0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7E37-BE65-4C59-9CFA-694AB776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EC1C-EF10-485C-B62D-313C36C2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791E-30ED-4BE4-BB00-8F437B5A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3E7E-0DB2-498F-AD61-7B8A1433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3ACF-BA98-4431-AA06-248104A7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18FC-460A-4DDE-92AB-6B5B204D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G4%20-933MHz%20HD/%20WEBSITES/%20WWW%20Science%20Education/ref/presentation/powerpoint/ppt_files/solarsystem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/15/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rm Herr (sample fi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6DA1-2BEF-416A-B033-0FD667A52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457200"/>
            <a:ext cx="1600200" cy="120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5.gif"/><Relationship Id="rId3" Type="http://schemas.openxmlformats.org/officeDocument/2006/relationships/image" Target="../media/image12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4.gif"/><Relationship Id="rId4" Type="http://schemas.openxmlformats.org/officeDocument/2006/relationships/image" Target="../media/image19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3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olarviews.com/cap/comet/halebop2.htm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www.siec.k12.in.us/~west/proj/space/sun.htm" TargetMode="External"/><Relationship Id="rId3" Type="http://schemas.openxmlformats.org/officeDocument/2006/relationships/image" Target="../media/image7.gif"/><Relationship Id="rId4" Type="http://schemas.openxmlformats.org/officeDocument/2006/relationships/image" Target="../media/image4.gif"/><Relationship Id="rId5" Type="http://schemas.openxmlformats.org/officeDocument/2006/relationships/image" Target="../media/image8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26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hyperlink" Target="http://www.windows.ucar.edu/tour/link=/the_universe/supernova.html" TargetMode="External"/><Relationship Id="rId3" Type="http://schemas.openxmlformats.org/officeDocument/2006/relationships/image" Target="../media/image30.jpeg"/><Relationship Id="rId4" Type="http://schemas.openxmlformats.org/officeDocument/2006/relationships/image" Target="../media/image31.gif"/><Relationship Id="rId5" Type="http://schemas.openxmlformats.org/officeDocument/2006/relationships/image" Target="../media/image32.gi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4.gif"/><Relationship Id="rId3" Type="http://schemas.openxmlformats.org/officeDocument/2006/relationships/image" Target="../media/image1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What Objects Make up Our Solar System?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8 planet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1 moon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steroids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eteor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met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048120" cy="2598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43000" y="5638680"/>
            <a:ext cx="6705720" cy="978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15238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352680" y="2286000"/>
            <a:ext cx="914400" cy="830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66"/>
                </a:solidFill>
                <a:uFillTx/>
                <a:latin typeface="Times New Roman"/>
              </a:rPr>
              <a:t>Summarize: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do we know about 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inner rocky planet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ercury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Venus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arth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ars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971800" y="2438280"/>
            <a:ext cx="942840" cy="866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971800" y="53341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971800" y="3429000"/>
            <a:ext cx="942840" cy="866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952880" y="3276720"/>
            <a:ext cx="1467000" cy="1450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971800" y="441972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4952880" y="2057400"/>
            <a:ext cx="990720" cy="900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5257800" y="5181480"/>
            <a:ext cx="990720" cy="900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Rotating Jupiter"/>
          <p:cNvPicPr/>
          <p:nvPr/>
        </p:nvPicPr>
        <p:blipFill>
          <a:blip r:embed="rId1"/>
          <a:stretch/>
        </p:blipFill>
        <p:spPr>
          <a:xfrm>
            <a:off x="7315200" y="5127480"/>
            <a:ext cx="1828800" cy="17305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3300"/>
                </a:solidFill>
                <a:latin typeface="Arial Black"/>
              </a:rPr>
              <a:t>Jupiter</a:t>
            </a:r>
            <a:endParaRPr b="1" lang="en-US" sz="5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argest and 5</a:t>
            </a:r>
            <a:r>
              <a:rPr b="1" lang="en-US" sz="28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planet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aseous planet made of Hydrogen, Helium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s a storm known as the “Red Spot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s 16 moon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ear = 11.9 earth yea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pins fast, 1 day equals 9.8 earth hou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Rotating Jupiter"/>
          <p:cNvPicPr/>
          <p:nvPr/>
        </p:nvPicPr>
        <p:blipFill>
          <a:blip r:embed="rId2"/>
          <a:stretch/>
        </p:blipFill>
        <p:spPr>
          <a:xfrm>
            <a:off x="0" y="0"/>
            <a:ext cx="1752480" cy="1657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914400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477120" y="228600"/>
            <a:ext cx="990360" cy="900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4114800" y="5638680"/>
            <a:ext cx="990720" cy="900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2743200" cy="2133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5400" spc="-1" strike="noStrike">
                <a:solidFill>
                  <a:srgbClr val="ff3300"/>
                </a:solidFill>
                <a:latin typeface="Arial Black"/>
              </a:rPr>
              <a:t>Saturn</a:t>
            </a:r>
            <a:endParaRPr b="1" lang="en-US" sz="5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Rings made of rock/dust/ice particl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nd largest planet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Has low density—it would float in wat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tmosphere is made of Hydrogen, Heliu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8 mo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 Yr = 29.5 earth yea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 day = 10 hou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0" y="15238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7010280" y="228600"/>
            <a:ext cx="990720" cy="900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3962520" y="5562720"/>
            <a:ext cx="990360" cy="900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3300"/>
                </a:solidFill>
                <a:latin typeface="Arial Black"/>
              </a:rPr>
              <a:t>Uranus</a:t>
            </a:r>
            <a:endParaRPr b="1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Black"/>
              </a:rPr>
              <a:t>Has ring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Black"/>
              </a:rPr>
              <a:t>Atmosphere composed of Hydrogen, Helium, and Methan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Black"/>
              </a:rPr>
              <a:t>Methane gives the planet it’s blue - green colo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Black"/>
              </a:rPr>
              <a:t>Rotates on its side with rings perpendicular to it’s axi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Black"/>
              </a:rPr>
              <a:t>1 Year = 84 earth yea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238880" y="48006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182880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334120" y="5334120"/>
            <a:ext cx="990360" cy="900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6248520" y="228600"/>
            <a:ext cx="990360" cy="900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 Black"/>
              </a:rPr>
              <a:t>Neptune</a:t>
            </a:r>
            <a:endParaRPr b="1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ethane gives Neptune it’s blue colo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tmosphere composed of methane, and ammonia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y contain liquid wat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as 8 mo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 Yr = 184 earth yea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04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086600" y="533520"/>
            <a:ext cx="990720" cy="900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4724280" y="5410080"/>
            <a:ext cx="990720" cy="900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Summarize: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Think about and discuss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do we know about the Outer Jovian planets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rite down one fact about each plane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pit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tur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ranu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ptun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What is a Comet?</a:t>
            </a:r>
            <a:endParaRPr b="1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A mass of dust and rock mixed with frozen water, methane, and ammonia that produces a bright tail that points away from the sun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(like a big dirty snowball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784680"/>
            <a:ext cx="9144000" cy="3073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1447920"/>
            <a:ext cx="9144000" cy="304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7391520" y="228600"/>
            <a:ext cx="990360" cy="900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Asteroids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steroids are located in an area between the orbits of Mars and Jupiter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is area is called the asteroid bel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hy are they located there?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upiter’s gravity may have kept a planet from forming in the area where the asteroid belt is locate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ticles range from small pieces of rock to 940 km!</a:t>
            </a: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Image: Illustration of extrasolar asteroid belt"/>
          <p:cNvPicPr/>
          <p:nvPr/>
        </p:nvPicPr>
        <p:blipFill>
          <a:blip r:embed="rId1"/>
          <a:stretch/>
        </p:blipFill>
        <p:spPr>
          <a:xfrm>
            <a:off x="4419720" y="1504800"/>
            <a:ext cx="4724280" cy="2665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781680" y="228600"/>
            <a:ext cx="1600200" cy="1219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Location of main asteroid belt"/>
          <p:cNvPicPr/>
          <p:nvPr/>
        </p:nvPicPr>
        <p:blipFill>
          <a:blip r:embed="rId3"/>
          <a:stretch/>
        </p:blipFill>
        <p:spPr>
          <a:xfrm>
            <a:off x="5562720" y="4121280"/>
            <a:ext cx="327636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Image: Illustration of extrasolar asteroid belt"/>
          <p:cNvPicPr/>
          <p:nvPr/>
        </p:nvPicPr>
        <p:blipFill>
          <a:blip r:embed="rId1"/>
          <a:stretch/>
        </p:blipFill>
        <p:spPr>
          <a:xfrm>
            <a:off x="4191120" y="2941560"/>
            <a:ext cx="4952880" cy="39164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What are Asteroids?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 Black"/>
              </a:rPr>
              <a:t>Asteroids are pieces of space rock that never formed a planet Located between Mars and Jupiter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Location of main asteroid belt"/>
          <p:cNvPicPr/>
          <p:nvPr/>
        </p:nvPicPr>
        <p:blipFill>
          <a:blip r:embed="rId2"/>
          <a:stretch/>
        </p:blipFill>
        <p:spPr>
          <a:xfrm>
            <a:off x="380880" y="3581280"/>
            <a:ext cx="3429000" cy="3276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7467480" y="228600"/>
            <a:ext cx="1190880" cy="1190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33520" y="533520"/>
            <a:ext cx="121896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429000" y="4952880"/>
            <a:ext cx="1828800" cy="16765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 Black"/>
              </a:rPr>
              <a:t>What's the difference between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 Black"/>
              </a:rPr>
              <a:t>Meteoroids, Meteors, and Meteorites?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Small pieces of rock that move through space are meteoroid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A meteoroid that burns up in the earth’s atmosphere is called a meteo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A meteor that strikes the earth it is called a meteorit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525780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705720" y="5029200"/>
            <a:ext cx="1752480" cy="1643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0" y="205740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304920" y="380880"/>
            <a:ext cx="1295280" cy="1176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 Black"/>
              </a:rPr>
              <a:t>How do planets revolve around the Sun?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49" name="" descr="Ellipse construction"/>
          <p:cNvPicPr/>
          <p:nvPr/>
        </p:nvPicPr>
        <p:blipFill>
          <a:blip r:embed="rId1"/>
          <a:stretch/>
        </p:blipFill>
        <p:spPr>
          <a:xfrm>
            <a:off x="1285920" y="3386160"/>
            <a:ext cx="6334200" cy="3166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The planets orbit around the sun in an elliptical patter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Su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0" y="1905120"/>
            <a:ext cx="9144000" cy="304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362320" y="39625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8010360" y="3429000"/>
            <a:ext cx="1133640" cy="1030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How do we know the solar system is 5 Billion Years Old?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steroids, Meteorites and Moon Rocks have been around since the beginning of the Solar System because they never formed a plane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ir age tells us that the solar system is at least 5 billion years old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705720" y="5029200"/>
            <a:ext cx="1752480" cy="1643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4800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0" y="15238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4038480" y="4952880"/>
            <a:ext cx="1295640" cy="1176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What is the Solar Nebular Model?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model that describes the sun and solar system forming together out of a cloud of gas and dust (nebula)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848720" y="380880"/>
            <a:ext cx="1295280" cy="1176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Orion Nebul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2590920"/>
            <a:ext cx="4100760" cy="4267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7848720" y="1905120"/>
            <a:ext cx="880920" cy="1371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solarsysform.gif (1353338 bytes)"/>
          <p:cNvPicPr/>
          <p:nvPr/>
        </p:nvPicPr>
        <p:blipFill>
          <a:blip r:embed="rId5"/>
          <a:stretch/>
        </p:blipFill>
        <p:spPr>
          <a:xfrm>
            <a:off x="914400" y="29718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- Particles Clump Together to Form larger      and larger Particles, in this case, planetesimals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543800" cy="42973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144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Planets form by </a:t>
            </a:r>
            <a:r>
              <a:rPr b="0" i="1" lang="en-US" sz="3600" spc="-1" strike="noStrike" u="sng">
                <a:solidFill>
                  <a:srgbClr val="ffff66"/>
                </a:solidFill>
                <a:uFillTx/>
                <a:latin typeface="Arial Black"/>
              </a:rPr>
              <a:t>Accretion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What is Accretion?</a:t>
            </a:r>
            <a:endParaRPr b="1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cretion occurs when small particles collide and stick together forming larger objects (planets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accretion.jpg (21367 bytes)"/>
          <p:cNvPicPr/>
          <p:nvPr/>
        </p:nvPicPr>
        <p:blipFill>
          <a:blip r:embed="rId1"/>
          <a:stretch/>
        </p:blipFill>
        <p:spPr>
          <a:xfrm>
            <a:off x="1752480" y="2874960"/>
            <a:ext cx="5791320" cy="39830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162920" y="380880"/>
            <a:ext cx="1295280" cy="1176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532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971800" y="3962520"/>
            <a:ext cx="21337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838080"/>
            <a:ext cx="411480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. A  cloud of Ice gas and dust called a Nebula begins to collapse and s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4647960" cy="1618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. As it spins faster, a flat disk shape begins to form with a hot center.  Pieces of dust and rock start clumping together to form the plan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3962520"/>
            <a:ext cx="487692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3. Eventually our sun forms and the planetesimals (tiny planets) collide and grow larger as their gravity incr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5486400"/>
            <a:ext cx="411480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4. Our Sun blows away (Solar Wind) any remaining gas leaving only the plane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5715000"/>
            <a:ext cx="838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00400" y="152280"/>
            <a:ext cx="59436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How did our solar system For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4 ste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Summarize: </a:t>
            </a: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nk About and Discuss-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are asteroids and meteorites and comets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w do we know the solar system is 5 billion years old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w did the solar system form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7086600" cy="1033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Inner </a:t>
            </a:r>
            <a:r>
              <a:rPr b="1" i="1" lang="en-US" sz="3600" spc="-1" strike="noStrike">
                <a:solidFill>
                  <a:srgbClr val="ffff66"/>
                </a:solidFill>
                <a:latin typeface="Times New Roman"/>
              </a:rPr>
              <a:t>(Terrestrial)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Planets 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vs. Outer </a:t>
            </a:r>
            <a:r>
              <a:rPr b="1" i="1" lang="en-US" sz="3600" spc="-1" strike="noStrike">
                <a:solidFill>
                  <a:srgbClr val="ffff66"/>
                </a:solidFill>
                <a:latin typeface="Times New Roman"/>
              </a:rPr>
              <a:t>(Gassy)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Planets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The Inn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(Terrestrial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lanets are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rcury, Venus, Earth, and M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st to the s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maller, Rocky, and therefore mo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nse, and they orbit the sun fa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Outer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(Gaseous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planets are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Jupiter, Saturn, Uranus, and Nept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rther from the s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de of gas, and therefore less dense, and they are la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4038480" cy="1392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638680" y="3733920"/>
            <a:ext cx="2990880" cy="1738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What is the difference between the 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Inner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(terrestrial)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 and Outer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(Jovian)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planets?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Inner Rocky planets: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y are smaller, rocky and more dense, and orbit fas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Outer Jovian Planets: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They are larger, gaseous, less dens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 have slow orbit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76920" y="2743200"/>
            <a:ext cx="4038480" cy="1392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257800" y="4776840"/>
            <a:ext cx="3429000" cy="2081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133720" y="2971800"/>
            <a:ext cx="990360" cy="90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762120" cy="691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 Black"/>
              </a:rPr>
              <a:t>What do we know about MERCURY?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ike our moon, it has no atmosphere and therefore has many crat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mallest plane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urface temps can reach 45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 during the day and  -17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 at night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(extreme temperature variation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436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772400" y="2514600"/>
            <a:ext cx="1143000" cy="1038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 Black"/>
              </a:rPr>
              <a:t>What do we Know about 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Arial Black"/>
              </a:rPr>
              <a:t>VENUS?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milar in size to earth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nse carbon dioxide (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 Black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) atmosphere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ains sulfuric aci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as a day longer than it's yea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urface temps can reach 47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as a severe greenhouse effec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543800" y="2514600"/>
            <a:ext cx="121932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What do we know about 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EARTH?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 AU from the sun 1AU = 150million </a:t>
            </a:r>
            <a:r>
              <a:rPr b="0" lang="en-US" sz="2800" spc="-1" strike="noStrike">
                <a:solidFill>
                  <a:srgbClr val="ffff99"/>
                </a:solidFill>
                <a:latin typeface="Arial Black"/>
              </a:rPr>
              <a:t>(1.5 X 10</a:t>
            </a:r>
            <a:r>
              <a:rPr b="0" lang="en-US" sz="2800" spc="-1" strike="noStrike" baseline="30000">
                <a:solidFill>
                  <a:srgbClr val="ffff99"/>
                </a:solidFill>
                <a:latin typeface="Arial Black"/>
              </a:rPr>
              <a:t>8 </a:t>
            </a:r>
            <a:r>
              <a:rPr b="0" lang="en-US" sz="2800" spc="-1" strike="noStrike">
                <a:solidFill>
                  <a:srgbClr val="ffff99"/>
                </a:solidFill>
                <a:latin typeface="Arial Black"/>
              </a:rPr>
              <a:t>KM)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xygen rich atmosphere due to photosynthetic plants &amp; alga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teorites have been radiometrically dated at 4.6 billion years old, so earth is at least 4.6 billion years ol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391520" y="5715000"/>
            <a:ext cx="1228680" cy="936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7924680" y="0"/>
            <a:ext cx="990720" cy="900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3962520" y="5334120"/>
            <a:ext cx="990360" cy="900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What do we know about 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MARS?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99"/>
                </a:solidFill>
                <a:latin typeface="Arial"/>
              </a:rPr>
              <a:t>Red in color because of the iron oxide (rust) in the weathered rocks on it’s surface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99"/>
                </a:solidFill>
                <a:latin typeface="Arial"/>
              </a:rPr>
              <a:t>2 ice caps made of water and carbon dioxide 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99"/>
                </a:solidFill>
                <a:latin typeface="Arial"/>
              </a:rPr>
              <a:t>( CO</a:t>
            </a:r>
            <a:r>
              <a:rPr b="1" lang="en-US" sz="2100" spc="-1" strike="noStrike" baseline="-25000">
                <a:solidFill>
                  <a:srgbClr val="ffff99"/>
                </a:solidFill>
                <a:latin typeface="Arial"/>
              </a:rPr>
              <a:t>2 </a:t>
            </a:r>
            <a:r>
              <a:rPr b="1" lang="en-US" sz="2100" spc="-1" strike="noStrike">
                <a:solidFill>
                  <a:srgbClr val="ffff99"/>
                </a:solidFill>
                <a:latin typeface="Arial"/>
              </a:rPr>
              <a:t>) 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99"/>
                </a:solidFill>
                <a:latin typeface="Arial"/>
              </a:rPr>
              <a:t>Northern ice cap is made up of water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99"/>
                </a:solidFill>
                <a:latin typeface="Arial"/>
              </a:rPr>
              <a:t>Shows signs of running water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99"/>
                </a:solidFill>
                <a:latin typeface="Arial"/>
              </a:rPr>
              <a:t>Has the largest volcano in the solar system called Olympus Mon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Has a large valley called </a:t>
            </a: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Valles Marineris</a:t>
            </a: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hin atmosphere composed mostly of carbon dioxide ( CO</a:t>
            </a:r>
            <a:r>
              <a:rPr b="0" lang="en-US" sz="2000" spc="-1" strike="noStrike" baseline="-25000">
                <a:solidFill>
                  <a:srgbClr val="ffff99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wo irregular moons: Phobos and Deimo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400800" y="5638680"/>
            <a:ext cx="990720" cy="900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8153280" y="304920"/>
            <a:ext cx="990720" cy="900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Sydnie"/>
              </a:rPr>
              <a:t>Inner Planets Review:</a:t>
            </a:r>
            <a:endParaRPr b="1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Sydn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dnie"/>
              </a:rPr>
              <a:t>Which planet has a severe greenhouse effect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Sydn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dnie"/>
              </a:rPr>
              <a:t>Which planet may have once had running water on it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Sydn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dnie"/>
              </a:rPr>
              <a:t>Which planet is approximately 1 AU from the Sun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Sydn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dnie"/>
              </a:rPr>
              <a:t>Which planet is red due to iron oxide?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Sydn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dnie"/>
              </a:rPr>
              <a:t>Which planet rains sulfuric acid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Sydn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dnie"/>
              </a:rPr>
              <a:t>Which planet has extreme temperatures because it has no atmosphere and is coved with craters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20:54:46Z</dcterms:created>
  <dc:creator>Norman Herr</dc:creator>
  <dc:description/>
  <dc:language>en-US</dc:language>
  <cp:lastModifiedBy>jfuller</cp:lastModifiedBy>
  <dcterms:modified xsi:type="dcterms:W3CDTF">2008-10-27T17:25:18Z</dcterms:modified>
  <cp:revision>130</cp:revision>
  <dc:subject/>
  <dc:title>SOLAR SYSTEM</dc:title>
</cp:coreProperties>
</file>